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DB0-DFBA-4827-BEB0-A0C482F2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87E-EB14-426F-B920-972C94EC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440-8D14-40FC-BED2-886AAE19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3AA-97E0-4CFC-A634-B29BE18F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78D-2223-409E-A3BC-D156A9C9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78A-9F18-4081-9E2A-626D7ABB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BF9-B950-4C38-B7CE-F3DC0537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EA1-6B5C-4CD0-B1E8-F2DDED63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D86-0FC4-4988-B48E-001AE27E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F03-3EF8-469D-883A-B200964E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2A2-C42A-4B1A-9604-B013D9D5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8D1-E9C9-415A-884C-60040EBD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3BEB-45A4-4B55-A0F1-C33C35B64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estiopolis.com/economia/importancia-de-la-identidad-personal-y-social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ommons.wikimedia.org/wiki/File:La_familia_de_Carlos_IV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c090"/>
                </a:solidFill>
                <a:latin typeface="Comic Sans MS"/>
              </a:rPr>
              <a:t>RETR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p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tipo de arte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éner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De qué género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pc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colores ves en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es ____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hacen las persona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in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opinas de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da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dad pers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ficación 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joann\Pictures\Microsoft Clip Organizer\j0441428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53280" y="59436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7720" y="44197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omic Sans MS"/>
              </a:rPr>
              <a:t>¿Qué es el retrato pictóric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mini familia de Carlos 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685800"/>
            <a:ext cx="4267080" cy="347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joann\Pictures\Microsoft Clip Organizer\j0441429.png"/>
          <p:cNvPicPr/>
          <p:nvPr/>
        </p:nvPicPr>
        <p:blipFill>
          <a:blip r:embed="rId4"/>
          <a:stretch/>
        </p:blipFill>
        <p:spPr>
          <a:xfrm>
            <a:off x="784872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6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ular Callout 13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678360" y="29718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ular Callout 9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56272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Diego Velázqu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elipe IV a cab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felipe IV.jpg"/>
          <p:cNvPicPr/>
          <p:nvPr/>
        </p:nvPicPr>
        <p:blipFill>
          <a:blip r:embed="rId1"/>
          <a:stretch/>
        </p:blipFill>
        <p:spPr>
          <a:xfrm>
            <a:off x="1066680" y="1752480"/>
            <a:ext cx="3556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numento a Goy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800px-Zaragoza-Goya.jpg"/>
          <p:cNvPicPr/>
          <p:nvPr/>
        </p:nvPicPr>
        <p:blipFill>
          <a:blip r:embed="rId1"/>
          <a:stretch/>
        </p:blipFill>
        <p:spPr>
          <a:xfrm>
            <a:off x="1143000" y="1752480"/>
            <a:ext cx="296244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5715000" y="1066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Federico M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ular Callout 7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6635520" y="175248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cul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6754680" y="23623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ular Callout 13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rato de Picas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retrato de picaso.jpg"/>
          <p:cNvPicPr/>
          <p:nvPr/>
        </p:nvPicPr>
        <p:blipFill>
          <a:blip r:embed="rId1"/>
          <a:stretch/>
        </p:blipFill>
        <p:spPr>
          <a:xfrm>
            <a:off x="609480" y="1600200"/>
            <a:ext cx="350532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ular Callout 6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678360" y="29718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ular Callout 11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571500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Juan G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6715800" y="411480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746040" y="4724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6648480" y="533412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r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dad / identif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En los retratos, se puede ver una influencia de </a:t>
            </a:r>
            <a:r>
              <a:rPr b="0" lang="es-ES_tradnl" sz="4000" spc="-1" strike="noStrike">
                <a:solidFill>
                  <a:srgbClr val="e46c0a"/>
                </a:solidFill>
                <a:latin typeface="Calibri"/>
              </a:rPr>
              <a:t>la identidad personal 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s-ES_tradnl" sz="4000" spc="-1" strike="noStrike">
                <a:solidFill>
                  <a:srgbClr val="e46c0a"/>
                </a:solidFill>
                <a:latin typeface="Calibri"/>
              </a:rPr>
              <a:t>la identificación social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?  ¿Por qué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457200" y="40384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¿Tienes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 idenificación soci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533520" y="5181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omic Sans MS"/>
              </a:rPr>
              <a:t>Tarea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hacer una descripción de 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_tradnl" sz="3600" spc="-1" strike="noStrike">
                <a:solidFill>
                  <a:srgbClr val="000000"/>
                </a:solidFill>
                <a:latin typeface="Calibri"/>
              </a:rPr>
              <a:t>La familia de Carlos 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55:04Z</dcterms:created>
  <dc:creator>joann</dc:creator>
  <dc:description/>
  <dc:language>en-US</dc:language>
  <cp:lastModifiedBy>joann</cp:lastModifiedBy>
  <dcterms:modified xsi:type="dcterms:W3CDTF">2010-02-24T11:32:13Z</dcterms:modified>
  <cp:revision>59</cp:revision>
  <dc:subject/>
  <dc:title>Slide 1</dc:title>
</cp:coreProperties>
</file>